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B5F-2382-4BA6-9870-0EDC35F9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36E-FBCD-413B-A922-A493387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920-A388-4257-AC5C-5726A99C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A16-B1A5-4303-9AD4-572B4752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11A-BA70-4081-B548-A3CF532F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C4FD-CDE1-4A2A-8441-218986D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D2F5-8AFD-4839-9110-F62F2AE2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E32-6FE2-446D-BA13-05F93122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6F4-6703-4B77-8C21-D27FFDF9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C9F-172D-4DA9-BE8B-BE16821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0904-171C-4563-8D90-C6C1CCE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B92-40A4-48BF-B6DC-C67A549B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A322-05BD-46AA-AD19-8B1DD3F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A4E-EC1C-4FE8-AE20-3957D11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73A3-6111-43DE-A3C4-FB6354C4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F842-5BBA-4AE0-903A-7D5E8593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D4D2-0C34-45AA-AA31-A9A32DF0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066-6015-4436-9B3C-BC2F756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ECD-34A4-4DEC-B764-B737D744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1DA-C68B-494A-A4BD-D5C6181B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81D-1199-4A6A-A401-914C031D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D01-89A5-4F69-8FEB-A01A5B8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4EE-4599-4B12-BEBE-805B3F3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E39-6DD8-4C8F-AB11-FCCBE3E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F07E-3D69-4CDB-B76B-FDB296661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B73-E5C5-4DD9-9B9D-948493C3FD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Anurag Nig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it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56386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1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 =0 SL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“0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L=1 SL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880" y="1841400"/>
            <a:ext cx="8229600" cy="3276720"/>
            <a:chOff x="380880" y="1841400"/>
            <a:chExt cx="8229600" cy="327672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380880" y="1841400"/>
              <a:ext cx="806796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67360" y="1942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18320" y="3936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B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13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41274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se amplifier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828800"/>
            <a:ext cx="7086600" cy="4724280"/>
            <a:chOff x="609480" y="1828800"/>
            <a:chExt cx="7086600" cy="47242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0866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914400" y="5791320"/>
              <a:ext cx="12193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st bi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600200" y="510516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-V characteristic of MT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state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ance is a fun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419720" y="2502000"/>
            <a:ext cx="533160" cy="1091520"/>
            <a:chOff x="4419720" y="2502000"/>
            <a:chExt cx="533160" cy="1091520"/>
          </a:xfrm>
        </p:grpSpPr>
        <p:sp>
          <p:nvSpPr>
            <p:cNvPr id="267" name=""/>
            <p:cNvSpPr/>
            <p:nvPr/>
          </p:nvSpPr>
          <p:spPr>
            <a:xfrm>
              <a:off x="4419720" y="25020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31878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f-cell schematic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cells – Manual (using current/voltage sour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rs –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e amp. Timing block, Write driver –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 cre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Kb array - 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ematic auto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7to128DecoderSchematic(libname,cellname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WriteDrSchematic(libname,cellname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 A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(CreateSTTRAMSchematic(libname,cellname,R,C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Kb STT-RAM arr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1905120"/>
            <a:ext cx="8077320" cy="4647960"/>
            <a:chOff x="457200" y="1905120"/>
            <a:chExt cx="8077320" cy="464796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807732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752480" y="438156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ming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1480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8 x 8 ar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1560" y="35812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5029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 and Writ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146320"/>
            <a:ext cx="8381880" cy="4495680"/>
            <a:chOff x="304920" y="2146320"/>
            <a:chExt cx="8381880" cy="4495680"/>
          </a:xfrm>
        </p:grpSpPr>
        <p:graphicFrame>
          <p:nvGraphicFramePr>
            <p:cNvPr id="282" name=""/>
            <p:cNvGraphicFramePr/>
            <p:nvPr/>
          </p:nvGraphicFramePr>
          <p:xfrm>
            <a:off x="304920" y="2146320"/>
            <a:ext cx="807696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146320"/>
                      <a:ext cx="807696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90720" y="4221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4567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4497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&lt;0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26305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2560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“1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25606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rite “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8880" y="2560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ad ”0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47920" y="4290840"/>
              <a:ext cx="3045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971440" y="4913280"/>
              <a:ext cx="2286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467120" y="4359240"/>
              <a:ext cx="2286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iver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T-RAM bit-cell SPI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kill script to generate complete functional STT-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-specific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ing bit-cell model in 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 script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907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your tim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in S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a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lati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981080"/>
            <a:ext cx="5540400" cy="3657600"/>
            <a:chOff x="0" y="1981080"/>
            <a:chExt cx="5540400" cy="3657600"/>
          </a:xfrm>
        </p:grpSpPr>
        <p:sp>
          <p:nvSpPr>
            <p:cNvPr id="104" name=""/>
            <p:cNvSpPr/>
            <p:nvPr/>
          </p:nvSpPr>
          <p:spPr>
            <a:xfrm>
              <a:off x="5356080" y="28875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198108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35812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eakage cur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980720" y="3962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133720" y="396252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Technology Compar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45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T-RAM bit cell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66680" y="2057400"/>
            <a:ext cx="1752120" cy="3199680"/>
            <a:chOff x="1066680" y="2057400"/>
            <a:chExt cx="1752120" cy="3199680"/>
          </a:xfrm>
        </p:grpSpPr>
        <p:grpSp>
          <p:nvGrpSpPr>
            <p:cNvPr id="113" name=""/>
            <p:cNvGrpSpPr/>
            <p:nvPr/>
          </p:nvGrpSpPr>
          <p:grpSpPr>
            <a:xfrm>
              <a:off x="1369440" y="3707640"/>
              <a:ext cx="643320" cy="1418760"/>
              <a:chOff x="1369440" y="3707640"/>
              <a:chExt cx="643320" cy="14187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10960" y="370764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659240" y="4153320"/>
                <a:ext cx="35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360" y="416628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680480" y="4673880"/>
                <a:ext cx="32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03400" y="466776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369440" y="4416120"/>
                <a:ext cx="16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37560" y="4151880"/>
                <a:ext cx="60120" cy="52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642320" y="2801880"/>
              <a:ext cx="719280" cy="862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42640" y="205740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058280"/>
              <a:ext cx="7491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4760" y="4765680"/>
              <a:ext cx="7840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1640" y="2057400"/>
              <a:ext cx="8571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352680" y="2514600"/>
            <a:ext cx="4667400" cy="1391760"/>
            <a:chOff x="3352680" y="2514600"/>
            <a:chExt cx="4667400" cy="1391760"/>
          </a:xfrm>
        </p:grpSpPr>
        <p:grpSp>
          <p:nvGrpSpPr>
            <p:cNvPr id="127" name=""/>
            <p:cNvGrpSpPr/>
            <p:nvPr/>
          </p:nvGrpSpPr>
          <p:grpSpPr>
            <a:xfrm>
              <a:off x="3352680" y="2514600"/>
              <a:ext cx="2196720" cy="1391760"/>
              <a:chOff x="3352680" y="2514600"/>
              <a:chExt cx="2196720" cy="139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2680" y="2514600"/>
                <a:ext cx="2196720" cy="54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2680" y="3055680"/>
                <a:ext cx="2196720" cy="3092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2680" y="3364920"/>
                <a:ext cx="2196720" cy="541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08440" y="280836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440" y="352260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808440" y="3786120"/>
              <a:ext cx="12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24560" y="3102120"/>
              <a:ext cx="223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xide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38600" y="349236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e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3640" y="3395520"/>
              <a:ext cx="907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3564000"/>
              <a:ext cx="771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46520" y="2666880"/>
              <a:ext cx="24735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d Ferro magnetic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00400" y="4114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M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access tran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T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f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aram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ral curren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solve differential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olve differential equation 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or current eq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C dV/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2286000"/>
            <a:ext cx="3199680" cy="1979640"/>
            <a:chOff x="2971800" y="2286000"/>
            <a:chExt cx="3199680" cy="1979640"/>
          </a:xfrm>
        </p:grpSpPr>
        <p:grpSp>
          <p:nvGrpSpPr>
            <p:cNvPr id="146" name=""/>
            <p:cNvGrpSpPr/>
            <p:nvPr/>
          </p:nvGrpSpPr>
          <p:grpSpPr>
            <a:xfrm>
              <a:off x="3384720" y="2776320"/>
              <a:ext cx="1685160" cy="1489320"/>
              <a:chOff x="3384720" y="2776320"/>
              <a:chExt cx="1685160" cy="148932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1440" y="2776320"/>
                <a:ext cx="72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760640" y="3708000"/>
                <a:ext cx="205560" cy="557640"/>
                <a:chOff x="4760640" y="3708000"/>
                <a:chExt cx="205560" cy="557640"/>
              </a:xfrm>
            </p:grpSpPr>
            <p:sp>
              <p:nvSpPr>
                <p:cNvPr id="149" name=""/>
                <p:cNvSpPr/>
                <p:nvPr/>
              </p:nvSpPr>
              <p:spPr>
                <a:xfrm flipV="1">
                  <a:off x="476064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6324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4657320" y="352152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7320" y="3149280"/>
                <a:ext cx="412560" cy="18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63600" y="277632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3384720" y="3109680"/>
                <a:ext cx="515880" cy="587520"/>
                <a:chOff x="3384720" y="3109680"/>
                <a:chExt cx="515880" cy="587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384720" y="3109680"/>
                  <a:ext cx="515880" cy="587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25560" y="3109680"/>
                  <a:ext cx="0" cy="50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>
                <a:off x="3608280" y="2776320"/>
                <a:ext cx="5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08280" y="2776320"/>
                <a:ext cx="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539520" y="3708000"/>
                <a:ext cx="205560" cy="557640"/>
                <a:chOff x="3539520" y="3708000"/>
                <a:chExt cx="205560" cy="55764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3539520" y="3893400"/>
                  <a:ext cx="205560" cy="372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642120" y="370800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2971800" y="30898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2680" y="31291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6640" y="228600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0" y="495288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657600" y="5181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61214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ing CDF parameter to create behavioral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714680"/>
            <a:ext cx="8316720" cy="4285080"/>
            <a:chOff x="0" y="1714680"/>
            <a:chExt cx="8316720" cy="4285080"/>
          </a:xfrm>
        </p:grpSpPr>
        <p:graphicFrame>
          <p:nvGraphicFramePr>
            <p:cNvPr id="171" name=""/>
            <p:cNvGraphicFramePr/>
            <p:nvPr/>
          </p:nvGraphicFramePr>
          <p:xfrm>
            <a:off x="0" y="1866960"/>
            <a:ext cx="4495680" cy="266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866960"/>
                      <a:ext cx="449568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75960" y="3391200"/>
              <a:ext cx="12956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9480" y="38484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60" y="52959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Name = isou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5715000" y="1714680"/>
            <a:ext cx="2601720" cy="35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15000" y="1714680"/>
                      <a:ext cx="260172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5638680" y="346716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095880" y="3924000"/>
              <a:ext cx="3808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0080" y="56008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 = f(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30862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-cell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76240" y="1841400"/>
            <a:ext cx="2667240" cy="388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556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11760" y="1816200"/>
            <a:ext cx="4647960" cy="4726800"/>
            <a:chOff x="3911760" y="1816200"/>
            <a:chExt cx="4647960" cy="4726800"/>
          </a:xfrm>
        </p:grpSpPr>
        <p:graphicFrame>
          <p:nvGraphicFramePr>
            <p:cNvPr id="186" name=""/>
            <p:cNvGraphicFramePr/>
            <p:nvPr/>
          </p:nvGraphicFramePr>
          <p:xfrm>
            <a:off x="3911760" y="1816200"/>
            <a:ext cx="3962160" cy="4063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1760" y="1816200"/>
                      <a:ext cx="3962160" cy="40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4521240" y="60832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rite “1” Ope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78440" y="234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35640" y="2120400"/>
              <a:ext cx="3808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9520" y="2425680"/>
              <a:ext cx="16002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L=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=1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54760" y="4483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69160" y="3720960"/>
              <a:ext cx="152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2057400"/>
            <a:ext cx="8686800" cy="4495680"/>
            <a:chOff x="228600" y="2057400"/>
            <a:chExt cx="8686800" cy="4495680"/>
          </a:xfrm>
        </p:grpSpPr>
        <p:grpSp>
          <p:nvGrpSpPr>
            <p:cNvPr id="196" name=""/>
            <p:cNvGrpSpPr/>
            <p:nvPr/>
          </p:nvGrpSpPr>
          <p:grpSpPr>
            <a:xfrm>
              <a:off x="1371600" y="2057400"/>
              <a:ext cx="6324840" cy="4495680"/>
              <a:chOff x="1371600" y="2057400"/>
              <a:chExt cx="6324840" cy="4495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397160" y="2744280"/>
                <a:ext cx="5613480" cy="3574440"/>
                <a:chOff x="1397160" y="2744280"/>
                <a:chExt cx="5613480" cy="357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57400" y="3263040"/>
                  <a:ext cx="1524240" cy="8114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029200" y="276372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29200" y="3263040"/>
                  <a:ext cx="1981440" cy="218484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29200" y="5573160"/>
                  <a:ext cx="1981440" cy="37440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81640" y="38872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81640" y="3887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038840" y="586584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57800" y="276480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rite Dri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443320" y="3469680"/>
                  <a:ext cx="762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im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81840" y="563544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nsing Bl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639040" y="4012200"/>
                  <a:ext cx="761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mory Ar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67640" y="5448240"/>
                  <a:ext cx="228600" cy="1249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867640" y="31381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14800" y="336816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38840" y="5814000"/>
                  <a:ext cx="914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A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24240" y="318096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K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86200" y="2825640"/>
                  <a:ext cx="1143000" cy="62280"/>
                </a:xfrm>
                <a:prstGeom prst="rightArrow">
                  <a:avLst>
                    <a:gd name="adj1" fmla="val 50000"/>
                    <a:gd name="adj2" fmla="val 458815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32160" y="2744280"/>
                  <a:ext cx="6098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867640" y="5947920"/>
                  <a:ext cx="228600" cy="124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51640" y="6072480"/>
                  <a:ext cx="762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ata 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47920" y="34308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47920" y="36702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47920" y="34621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397160" y="372240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DD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447920" y="3909600"/>
                  <a:ext cx="609480" cy="124560"/>
                </a:xfrm>
                <a:prstGeom prst="rightArrow">
                  <a:avLst>
                    <a:gd name="adj1" fmla="val 50000"/>
                    <a:gd name="adj2" fmla="val 122327"/>
                  </a:avLst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581640" y="3555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1640" y="3742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038840" y="386784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67440" y="5740920"/>
                  <a:ext cx="76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267440" y="3742920"/>
                  <a:ext cx="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96040" y="5616000"/>
                  <a:ext cx="5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81640" y="36180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96040" y="3618000"/>
                  <a:ext cx="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343400" y="30560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343400" y="286884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96040" y="5366520"/>
                  <a:ext cx="43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440" y="5574240"/>
                  <a:ext cx="609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7160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71600" y="205740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96440" y="2057400"/>
                <a:ext cx="0" cy="449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6553080"/>
                <a:ext cx="632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04920" y="374328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311904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4804920"/>
              <a:ext cx="1066680" cy="124560"/>
            </a:xfrm>
            <a:prstGeom prst="rightArrow">
              <a:avLst>
                <a:gd name="adj1" fmla="val 50000"/>
                <a:gd name="adj2" fmla="val 21409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4367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280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600" y="3462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4055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’/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4920" y="4492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96440" y="3868200"/>
              <a:ext cx="761760" cy="249480"/>
            </a:xfrm>
            <a:prstGeom prst="rightArrow">
              <a:avLst>
                <a:gd name="adj1" fmla="val 50000"/>
                <a:gd name="adj2" fmla="val 763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96440" y="343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7600" y="21823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T-RAM Ma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37:53Z</dcterms:created>
  <dc:creator>uva</dc:creator>
  <dc:description/>
  <dc:language>en-US</dc:language>
  <cp:lastModifiedBy>anurag</cp:lastModifiedBy>
  <dcterms:modified xsi:type="dcterms:W3CDTF">2010-05-07T17:54:32Z</dcterms:modified>
  <cp:revision>39</cp:revision>
  <dc:subject/>
  <dc:title>SRAM Generator</dc:title>
</cp:coreProperties>
</file>